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014120" y="723600"/>
            <a:ext cx="4830840" cy="36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1A2A-DEA7-416E-9E24-B201DDC750F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D583-01C1-47A7-8E89-C884D9EC5A4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23840" y="731880"/>
            <a:ext cx="4811760" cy="36082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50A4-1D03-4A74-9DEE-7DF7876B84E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23840" y="731880"/>
            <a:ext cx="4811760" cy="3608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88E2-DAD4-46D0-B1A0-FD97FD4181A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23840" y="731880"/>
            <a:ext cx="4811760" cy="3608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022E-1E1D-41CE-A5CF-B50E53784DF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23840" y="731880"/>
            <a:ext cx="4811760" cy="36082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495AC-C906-4DE9-A4C4-CF08D0133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1600" y="405900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BC975-B5CF-40B9-A944-E7F4C6647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38228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9D5EC-BB91-475B-B6F7-F4C6F648D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8304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0412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160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8304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0412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4162D-F80F-4966-BD59-5049C3E299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CECC7-E997-416F-B262-D4798123A8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7925C-F1D0-465C-9023-C043F1C11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FF32B-7CB1-4666-A565-103DA7EF8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5AEE6-C3D8-46F8-B319-3D5478926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09600" y="151920"/>
            <a:ext cx="5908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063F0-3146-4587-AF70-AC9B9BA23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C729F-17B2-46A3-84E0-E9CA4C89E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8228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EBAB9-13DE-4536-B9E6-38C6FF787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82C66-91C3-4977-BA88-5783C28DCB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43240" y="6400800"/>
            <a:ext cx="267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AN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330960" y="6400800"/>
            <a:ext cx="175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2EFF-6A8E-4110-B443-3FFD73364D82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467840" cy="114300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VARIANCIAANALÍZIS (ANOVA) véletlen faktorok eseté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3258720"/>
            <a:ext cx="6629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ariancia-komponens-elem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6B86B-7A9A-47C5-A26E-467EEC89E838}" type="slidenum">
              <a:t>1</a:t>
            </a:fld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990720" y="914400"/>
          <a:ext cx="6553080" cy="490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14400"/>
                    <a:ext cx="6553080" cy="49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813240" y="270000"/>
            <a:ext cx="44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z eredeti átlag-terjedelem-kárty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6000" y="6019920"/>
            <a:ext cx="52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j van!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il a gyártási folyama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B7977-E385-4945-BB68-CBB0A5B8F2DF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1371600"/>
            <a:ext cx="77724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it is akarunk az ellenőrző kártyáv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különíteni a véletlen ingadozást a veszélyes hibától. A véletlen ingadozást a szokásos esetben a mintán belüli eltérések mutatjá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tt a mintán belüli ingadozás csak egy része a véletlen ingadozásnak, a hónapok közöttit is figyelembe kell ven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CA48B-AAE1-4548-BEAF-5D6F617C7D22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763120" cy="2062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46760" y="2819520"/>
            <a:ext cx="81345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hónapok közötti különbség tehát jelentő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djunk becslést 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aktor (a hónapok) hatásának varianciájár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09480" y="4114800"/>
                <a:ext cx="48006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3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2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449280" y="510552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ismétlések varianciájának becslé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819520" y="5867280"/>
                <a:ext cx="19810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79080" y="152280"/>
            <a:ext cx="36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VA (varianciaanalízi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C2E69-DEA3-424C-855F-87B3EB42CE43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62120" y="2743200"/>
                <a:ext cx="1495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62120" y="1905120"/>
                <a:ext cx="19810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746280" y="574560"/>
            <a:ext cx="78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beavatkozási határokat a szokásos esetben az ismétlések ingadozásából számolju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0920" y="1828800"/>
            <a:ext cx="52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ismétlések szórásnégyzetének becsl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27432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hónapok közötti ingadozás szórásnégyzetének becsl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838080" y="4038480"/>
                <a:ext cx="1752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 flipV="1">
            <a:off x="762120" y="18288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828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62120" y="25905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5909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65760" y="4191120"/>
            <a:ext cx="552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zt kell a kártya beavatkozási határaiho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sznál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14400" y="5410080"/>
                <a:ext cx="3860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35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2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94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 flipV="1">
            <a:off x="838080" y="54860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5BFC6-3F70-4A81-BFDE-A1DA4118265F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838080" y="1143000"/>
          <a:ext cx="6782040" cy="50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678204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69960" y="11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240" y="27000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kétrétegű ingadozást (hónap és ismétlés) figyelembe vevő beavatkozási határokkal rajzolt  kárt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49EA8-8730-496B-B883-8A845130C321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60984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ereszt-osztályozás két véletlen faktor szeri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905120"/>
            <a:ext cx="6950160" cy="404208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 pé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 elemzést nemcsak különböző napokon végeztek el, hanem különböző személyek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, hogy a mérést különböző napokon és különböző személyek végzik, okoz-e többlet-ingadozást az egy nap egy személy végezte ismétlések szóródásához képe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132D5-9304-4ACB-8ABC-00B4F381CDAA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1066680"/>
          <a:ext cx="8691480" cy="44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869148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923C8-ADCD-49AA-B6C6-4442DC48C4E8}" type="slidenum">
              <a:t>16</a:t>
            </a:fld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124080" y="914400"/>
                <a:ext cx="36990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685800" y="5181480"/>
            <a:ext cx="6416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példában 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3,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4,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6200" y="9133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6720" y="4342320"/>
            <a:ext cx="53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=1,…,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(ismétlé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0680" y="1904040"/>
            <a:ext cx="64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ap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emély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lcsönhatá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smétlési hi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743200" y="1371600"/>
            <a:ext cx="16765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191120" y="1371240"/>
            <a:ext cx="76176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638680" y="137160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6477120" y="1447560"/>
            <a:ext cx="121896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0960" y="35042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üggetlene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62120" y="2895480"/>
                <a:ext cx="1736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174840" y="2882880"/>
                <a:ext cx="17892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080040" y="2806560"/>
                <a:ext cx="20732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825480" y="3581280"/>
                <a:ext cx="160812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A0DA2-F374-4C3A-830E-025F24227F18}" type="slidenum">
              <a:t>17</a:t>
            </a:fld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7200" y="685800"/>
                <a:ext cx="3733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772080" y="1828800"/>
                <a:ext cx="14792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772080" y="2666880"/>
                <a:ext cx="14824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770280" y="3505320"/>
                <a:ext cx="17017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79440" y="18277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nullhipotézis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066680" y="4495680"/>
                <a:ext cx="3397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total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986400" y="5409000"/>
            <a:ext cx="44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övelik az ingadozást? Mennyi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96280" y="68472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nap, személy, kölcsönhatás, hi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E334A-54CF-452A-B111-DC63AB2E288C}" type="slidenum">
              <a:t>18</a:t>
            </a:fld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0" y="1295280"/>
          <a:ext cx="9144000" cy="495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763560" y="533520"/>
            <a:ext cx="268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NOVA-tábláz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4AC65-3011-49E6-9F6C-0C19532F51B5}" type="slidenum">
              <a:t>19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380880"/>
            <a:ext cx="853452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Rögzített faktorok: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intjeiket a kísérletekhez megválaszthatjuk és beállíthatjuk.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érdés: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an-e különbség a faktor különböző szintjei között, melyik közülük a legjob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Véletlen fakt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intjeit egy elképzelt sokaságból véletlenszerűen választjuk 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érdés: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faktornak van-e hatása az ingadozásra, több véletlen faktor közül melyik milyen mértékben járul hozzá az ingadozáshoz, a jövőben mekkora ingadozás várhat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429F1-561B-4BE2-A818-D0C0F350E769}" type="slidenum">
              <a:t>2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0" y="1677960"/>
          <a:ext cx="9144000" cy="373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7960"/>
                    <a:ext cx="914400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830880" y="685800"/>
            <a:ext cx="363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példa adataival számol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58DA4-2809-49BB-987D-4177DB572D8F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0" y="2133720"/>
          <a:ext cx="8763120" cy="258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8763120" cy="25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457200" y="303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tistics&gt;Advanced Linear/Nonlinear Model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gt;General Linear Models&gt;Factorial A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ptions fülön: Random Nap, Sz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68F83-B90D-47F0-A034-65BE64C2756F}" type="slidenum">
              <a:t>21</a:t>
            </a:fld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457200" y="380880"/>
          <a:ext cx="6858000" cy="25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6858000" cy="25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0" y="3048120"/>
          <a:ext cx="8458200" cy="3504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048120"/>
                    <a:ext cx="845820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38F2B-D348-4668-9185-D7FA768B11EE}" type="slidenum">
              <a:t>22</a:t>
            </a:fld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990720" y="3733920"/>
          <a:ext cx="6400800" cy="25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733920"/>
                    <a:ext cx="6400800" cy="25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0" y="0"/>
          <a:ext cx="9448920" cy="3581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4489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1FBEB-8766-42E1-83B6-7FBF7755DB18}" type="slidenum">
              <a:t>23</a:t>
            </a:fld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0" y="0"/>
          <a:ext cx="4495680" cy="310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495680" cy="31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33520" y="3200400"/>
                <a:ext cx="2394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4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38200" y="3862440"/>
                <a:ext cx="579744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317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3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17400" y="4929120"/>
                <a:ext cx="62611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8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3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2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4" name=""/>
          <p:cNvGraphicFramePr/>
          <p:nvPr/>
        </p:nvGraphicFramePr>
        <p:xfrm>
          <a:off x="4495680" y="457200"/>
          <a:ext cx="4648320" cy="21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457200"/>
                    <a:ext cx="464832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 flipV="1">
            <a:off x="533520" y="32004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32004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7200" y="403848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40384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09480" y="510516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510552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39DFE-6E4A-4917-AB35-211790FCE474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339480"/>
            <a:ext cx="7543800" cy="99684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ereszt-osztályozás két véletlen faktor szerint: Gage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R stud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94560" y="411480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lkatrés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4114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perá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97920" y="28954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smétlési hi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1640" y="41148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lcsönha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990720" y="2590920"/>
                <a:ext cx="36813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 flipV="1">
            <a:off x="2133720" y="3047760"/>
            <a:ext cx="15228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3047760" y="3123720"/>
            <a:ext cx="68580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3657600" y="3124080"/>
            <a:ext cx="137160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4647960" y="2895120"/>
            <a:ext cx="14475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B3BB9-AAE6-4F2A-B7BA-732FF0D77F9D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7924680" cy="34369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9480" y="709200"/>
            <a:ext cx="7772400" cy="203760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 pé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ox-Hunter-Hunter: Statistics for Experimenters, J. Wiley, 1978, p. 2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enicillin gyártása, 4 technológiát akarnak összehasonlítani, a kukoricalekvár-adagok különböz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6280" y="594252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incs ismét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70920" y="0"/>
            <a:ext cx="2382840" cy="52056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Véletlen blok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C4F85-3D07-4330-9960-9AC0A895CE37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066680" y="1066680"/>
                <a:ext cx="36752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62120" y="2971800"/>
                <a:ext cx="27907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762120" y="4114800"/>
                <a:ext cx="15001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85800" y="5410080"/>
                <a:ext cx="17398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3657600" y="2842200"/>
            <a:ext cx="518148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ülönbözik az egyes technológiákkal elérhető kitermelé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egnöveli a kuk. lekvár-adagok közötti különbség a kitermelés ingadozásá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an kölcsönhatás közöttü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840" y="30384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048120" y="343080"/>
                <a:ext cx="404496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1295280" y="1904040"/>
            <a:ext cx="33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echnológi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uk.lekvá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057400" y="15238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3123720" y="152352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4593A-81D1-4371-839E-19E1245B3227}" type="slidenum">
              <a:t>27</a:t>
            </a:fld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0" y="990720"/>
          <a:ext cx="9104400" cy="500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0440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688320" y="304920"/>
            <a:ext cx="3188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ANOVA-tábláz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781680" y="4952880"/>
                <a:ext cx="180972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28600" y="6107760"/>
            <a:ext cx="166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ism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724280" y="304920"/>
                <a:ext cx="40100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E7433-FCE9-4A77-8471-06784FD7F572}" type="slidenum">
              <a:t>28</a:t>
            </a:fld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380880" y="152280"/>
          <a:ext cx="7543800" cy="20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754380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33520" y="2362320"/>
                <a:ext cx="36748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5026680" y="23612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e nincs ismét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990720" y="5562720"/>
                <a:ext cx="26604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103720" y="563760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nincs kölcsönhat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09480" y="3581280"/>
          <a:ext cx="7543800" cy="201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581280"/>
                    <a:ext cx="7543800" cy="20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594720" y="312300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ain effects A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F0BFA-4E56-46E2-A05D-32B604467C5A}" type="slidenum">
              <a:t>29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426960"/>
            <a:ext cx="7467840" cy="51912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 véletlen faktor szerinti varianciaanalíz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600200"/>
            <a:ext cx="7772400" cy="192096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. pél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 elemzést három napon kétszer-kétszer végeztek 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koz-e ingadozást az, hogy különböző napokon végezték a mérések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14400" y="3733920"/>
          <a:ext cx="6477120" cy="236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733920"/>
                    <a:ext cx="64771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5313E-BAC9-4C63-A623-B85BD6ACD68B}" type="slidenum">
              <a:t>3</a:t>
            </a:fld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3809880" y="2209680"/>
          <a:ext cx="4800600" cy="20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209680"/>
                    <a:ext cx="480060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3503520" cy="44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380880" y="0"/>
          <a:ext cx="7543800" cy="204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0"/>
                    <a:ext cx="754380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886200" y="4343400"/>
          <a:ext cx="5257800" cy="1957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86200" y="4343400"/>
                    <a:ext cx="525780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6610A-1514-4E1B-A5F4-CE5BAEFD6CCF}" type="slidenum">
              <a:t>30</a:t>
            </a:fld>
          </a:p>
        </p:txBody>
      </p: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4495680" y="1447920"/>
          <a:ext cx="4038840" cy="16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447920"/>
                    <a:ext cx="4038840" cy="16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114800" y="3809880"/>
                <a:ext cx="43052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304920" y="457200"/>
            <a:ext cx="3865320" cy="4876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 flipH="1">
            <a:off x="6629400" y="24382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0" y="23612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629400" y="2590920"/>
            <a:ext cx="8380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4B907-583C-4C99-AF85-D7B809FF873F}" type="slidenum">
              <a:t>31</a:t>
            </a:fld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559840" y="228600"/>
            <a:ext cx="33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reziduumok ellenőrz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0" y="0"/>
          <a:ext cx="5105520" cy="38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105520" cy="38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4038480" y="2514600"/>
          <a:ext cx="487692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2514600"/>
                    <a:ext cx="48769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7EAE9-353D-4BD3-BAFC-102A9EDF2FC7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09600" y="247320"/>
            <a:ext cx="5908680" cy="56988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Hierarchikus osztályozá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1143000"/>
            <a:ext cx="68738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 pé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ox, Hunter és Hunter (1978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estékgyári nedvesség-tartalom-meghatározás: 15 gyártott adagból két-két mintát vesznek, mindkettőnek a víztartalmát kétszer-kétszer megméri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82760" y="3225960"/>
            <a:ext cx="8026200" cy="2844720"/>
            <a:chOff x="482760" y="3225960"/>
            <a:chExt cx="8026200" cy="2844720"/>
          </a:xfrm>
        </p:grpSpPr>
        <p:sp>
          <p:nvSpPr>
            <p:cNvPr id="253" name=""/>
            <p:cNvSpPr/>
            <p:nvPr/>
          </p:nvSpPr>
          <p:spPr>
            <a:xfrm>
              <a:off x="666720" y="3260880"/>
              <a:ext cx="681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gyártott adagok         1                   2           …           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7440" y="3794040"/>
              <a:ext cx="7358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minták                  1        2          3       4      …       29       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0760" y="4861080"/>
              <a:ext cx="7799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elemzés             1   2    3   4      5   6   7   8   …   57  58   59  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74880" y="51656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6360" y="4251240"/>
              <a:ext cx="743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(1)     (2)        (1)    (2)     …      (1)      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7680" y="54705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3480" y="5318280"/>
              <a:ext cx="774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(1) (2) (1) (2)  (1) (2) (1) (2) …  (1)  (2) (1) 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089840" y="3660840"/>
              <a:ext cx="2253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82204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58416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575240" y="4651200"/>
              <a:ext cx="14904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33664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708240" y="4727520"/>
              <a:ext cx="14940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69896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32240" y="3660840"/>
              <a:ext cx="30168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127320" y="3660840"/>
              <a:ext cx="30168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803840" y="3660840"/>
              <a:ext cx="2253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32440" y="3660840"/>
              <a:ext cx="2253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18440" y="3660840"/>
              <a:ext cx="30168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5040" y="4651200"/>
              <a:ext cx="14904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3680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03840" y="4651200"/>
              <a:ext cx="14904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6560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37200" y="4727520"/>
              <a:ext cx="14940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2792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2760" y="3225960"/>
              <a:ext cx="802620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C5F7A-E651-4B53-A8A2-291822324706}" type="slidenum">
              <a:t>33</a:t>
            </a:fld>
          </a:p>
        </p:txBody>
      </p:sp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0" y="1447920"/>
          <a:ext cx="784872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784872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746280" y="822240"/>
            <a:ext cx="7407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adatok táblázatának egy rész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2240" y="898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A6F56-526C-4444-8BEA-3250C1B2A67E}" type="slidenum">
              <a:t>34</a:t>
            </a:fld>
          </a:p>
        </p:txBody>
      </p:sp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835560" y="533520"/>
            <a:ext cx="141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mode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819520" y="533520"/>
                <a:ext cx="31906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132640" y="175140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dag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int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nalíz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666880" y="914400"/>
            <a:ext cx="137160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495680" y="1066320"/>
            <a:ext cx="15264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5715000" y="106632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143000" y="2971800"/>
                <a:ext cx="17366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708360" y="2959200"/>
                <a:ext cx="178920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208560" y="2882880"/>
                <a:ext cx="1970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d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1050120" y="38088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üggetle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584DB-BFDB-4F0E-99A6-E0F34B261E06}" type="slidenum">
              <a:t>35</a:t>
            </a:fld>
          </a:p>
        </p:txBody>
      </p:sp>
    </p:spTree>
  </p:cSld>
  <p:transition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0" y="1295280"/>
          <a:ext cx="9144000" cy="335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685440" y="457200"/>
            <a:ext cx="2766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ANOVA-tábláz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80880" y="4800600"/>
                <a:ext cx="1481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: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2895480" y="4800600"/>
                <a:ext cx="10782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/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57200" y="5562720"/>
                <a:ext cx="14810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: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819520" y="5562720"/>
                <a:ext cx="11890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Sup>
                      <m:e/>
                      <m:sub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/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019920" y="4419720"/>
                <a:ext cx="19954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019920" y="5334120"/>
                <a:ext cx="19954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 flipV="1">
            <a:off x="6019920" y="4647960"/>
            <a:ext cx="1522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72200" y="4648320"/>
            <a:ext cx="1522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943600" y="548640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72200" y="54864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CB037-5E80-42FA-918F-BB930E15A651}" type="slidenum">
              <a:t>36</a:t>
            </a:fld>
          </a:p>
        </p:txBody>
      </p:sp>
    </p:spTree>
  </p:cSld>
  <p:transition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457200" y="990720"/>
          <a:ext cx="8458200" cy="20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845820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762120" y="3581280"/>
          <a:ext cx="4724280" cy="16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581280"/>
                    <a:ext cx="4724280" cy="16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CA288-D4A5-47CC-896C-583B3E97EB00}" type="slidenum">
              <a:t>37</a:t>
            </a:fld>
          </a:p>
        </p:txBody>
      </p:sp>
    </p:spTree>
  </p:cSld>
  <p:transition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1722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Egy rögzített és két véletlen faktor: latin négyz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8077320" cy="25351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1368000"/>
            <a:ext cx="8153640" cy="210564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 pé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ox-Hunter-Hunter: Statistics for Experimenters, J. Wiley, 1978, p. 2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égy benzin-adalékot hasonlítanak össze szennyezés-kibocsátás szempontjából. Gondolni kell az autók és vezetők esetleges különbözőségére is (blokk-faktorok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3480" y="5942520"/>
            <a:ext cx="79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ezető: 1,…,4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utó: I,…,IV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dalék: A, B, C,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AC40A-2E99-467C-954D-6A9B0992CF78}" type="slidenum">
              <a:t>38</a:t>
            </a:fld>
          </a:p>
        </p:txBody>
      </p:sp>
    </p:spTree>
  </p:cSld>
  <p:transition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1219320" y="914400"/>
                <a:ext cx="3327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385920" y="30384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80600" y="83700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smétlés nélkü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914400" y="2590920"/>
                <a:ext cx="6730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β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611280" y="190404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teljes modell ilyen lenne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441600" y="304920"/>
                <a:ext cx="51008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6482520" y="19040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hu-H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kísérle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8077320" cy="253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3066E-812E-4C59-8EE5-E9E3A680F055}" type="slidenum">
              <a:t>39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685440" y="762120"/>
            <a:ext cx="4261320" cy="477720"/>
            <a:chOff x="685440" y="762120"/>
            <a:chExt cx="4261320" cy="477720"/>
          </a:xfrm>
        </p:grpSpPr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2971800" y="762120"/>
                  <a:ext cx="197496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m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6" name=""/>
            <p:cNvSpPr/>
            <p:nvPr/>
          </p:nvSpPr>
          <p:spPr>
            <a:xfrm>
              <a:off x="685440" y="762120"/>
              <a:ext cx="148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A modell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438280" y="1416240"/>
            <a:ext cx="6019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faktor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szintjének (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nap) ha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zös érték;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+1 paramé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834120" y="2894400"/>
            <a:ext cx="6014160" cy="459720"/>
            <a:chOff x="834120" y="2894400"/>
            <a:chExt cx="6014160" cy="459720"/>
          </a:xfrm>
        </p:grpSpPr>
        <p:sp>
          <p:nvSpPr>
            <p:cNvPr id="59" name=""/>
            <p:cNvSpPr/>
            <p:nvPr/>
          </p:nvSpPr>
          <p:spPr>
            <a:xfrm>
              <a:off x="834120" y="2894400"/>
              <a:ext cx="237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rögzített faktorná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3876480" y="2895480"/>
                  <a:ext cx="2971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: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" name=""/>
          <p:cNvSpPr/>
          <p:nvPr/>
        </p:nvSpPr>
        <p:spPr>
          <a:xfrm>
            <a:off x="910800" y="396144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életlen faktorná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886200" y="4800600"/>
                <a:ext cx="1150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562720" y="4724280"/>
                <a:ext cx="1601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162920" y="5410080"/>
                <a:ext cx="14508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886200" y="5410080"/>
                <a:ext cx="1446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553080" y="5334120"/>
            <a:ext cx="2286000" cy="1143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962520" y="3962520"/>
                <a:ext cx="17366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4BBEA-DC64-45C9-B5D7-62F7D51DBD74}" type="slidenum">
              <a:t>4</a:t>
            </a:fld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685800" y="4343400"/>
          <a:ext cx="6095880" cy="18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43400"/>
                    <a:ext cx="609588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762120" y="1143000"/>
          <a:ext cx="457200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143000"/>
                    <a:ext cx="45720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95080" y="150840"/>
            <a:ext cx="839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tistics&gt;Industrial Statistics &amp; Six Sigma&gt;Experimental Desig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gt;Latin squar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2893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tistics&gt;Advanced Linear/Nonlinear Model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gt;General Linear Models&gt;Main effects A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ptions fülön: Random factors: Driver, C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All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CCF0D-D3CD-4D1A-9DA9-703DB3327139}" type="slidenum">
              <a:t>40</a:t>
            </a:fld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685800" y="2895480"/>
          <a:ext cx="7086600" cy="34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95480"/>
                    <a:ext cx="708660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757800" y="2361240"/>
            <a:ext cx="37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ummary fülön: Coeffic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762120" y="228600"/>
          <a:ext cx="4800600" cy="214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28600"/>
                    <a:ext cx="480060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076080" y="501840"/>
            <a:ext cx="283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ögzített faktorokké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ugyanaz az eredm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B367F-014E-4360-B140-4B1F5C598F7D}" type="slidenum">
              <a:t>41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914400"/>
          <a:ext cx="914400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458280" y="227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NOVA-tábláz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286000" y="4724280"/>
                <a:ext cx="1990800" cy="18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p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num>
                      <m:den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105520" y="5334120"/>
                <a:ext cx="14461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162920" y="5105520"/>
                <a:ext cx="101412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304920" y="6019920"/>
            <a:ext cx="99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8640" y="49518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0958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6D021-BE75-404F-8BA5-A787C42B08B5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45720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ANOVA táblázat egy véletlen fakto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4191120"/>
            <a:ext cx="3733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fogadjuk a nullhipotéz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629400" y="4191120"/>
                <a:ext cx="14461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781680" y="5029200"/>
                <a:ext cx="10144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2" name=""/>
          <p:cNvGraphicFramePr/>
          <p:nvPr/>
        </p:nvGraphicFramePr>
        <p:xfrm>
          <a:off x="533520" y="1371600"/>
          <a:ext cx="7543800" cy="19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7543800" cy="19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295280" y="2819520"/>
            <a:ext cx="990720" cy="380880"/>
          </a:xfrm>
          <a:prstGeom prst="ellipse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6D044-2FD9-44BC-A351-A597BD57D67B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1800" y="1522800"/>
            <a:ext cx="88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   hipotézist elutasítjuk, becsülnünk kell a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varianciá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2286000"/>
            <a:ext cx="2065320" cy="939960"/>
            <a:chOff x="990720" y="2286000"/>
            <a:chExt cx="2065320" cy="939960"/>
          </a:xfrm>
        </p:grpSpPr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990720" y="2743200"/>
                  <a:ext cx="206532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pσ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d>
                      <m:r>
                        <m:t xml:space="preserve">=</m:t>
                      </m:r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88" name=""/>
            <p:cNvSpPr/>
            <p:nvPr/>
          </p:nvSpPr>
          <p:spPr>
            <a:xfrm flipV="1">
              <a:off x="990720" y="2286000"/>
              <a:ext cx="758880" cy="22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6520" y="2286000"/>
              <a:ext cx="758880" cy="22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029200" y="2666520"/>
            <a:ext cx="1120680" cy="560880"/>
            <a:chOff x="5029200" y="2666520"/>
            <a:chExt cx="1120680" cy="560880"/>
          </a:xfrm>
        </p:grpSpPr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5105520" y="2743200"/>
                  <a:ext cx="104436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92" name=""/>
            <p:cNvSpPr/>
            <p:nvPr/>
          </p:nvSpPr>
          <p:spPr>
            <a:xfrm flipV="1">
              <a:off x="5029200" y="2666520"/>
              <a:ext cx="225360" cy="14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57800" y="2666880"/>
              <a:ext cx="225360" cy="14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62120" y="3962520"/>
            <a:ext cx="1719000" cy="961920"/>
            <a:chOff x="762120" y="3962520"/>
            <a:chExt cx="1719000" cy="961920"/>
          </a:xfrm>
        </p:grpSpPr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762120" y="4038480"/>
                  <a:ext cx="1719000" cy="88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−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p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6" name=""/>
            <p:cNvSpPr/>
            <p:nvPr/>
          </p:nvSpPr>
          <p:spPr>
            <a:xfrm flipV="1">
              <a:off x="762120" y="3962520"/>
              <a:ext cx="225360" cy="14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90720" y="3962520"/>
              <a:ext cx="225360" cy="14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09480" y="457200"/>
                <a:ext cx="2224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p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419720" y="457200"/>
                <a:ext cx="1377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00" name=""/>
          <p:cNvGrpSpPr/>
          <p:nvPr/>
        </p:nvGrpSpPr>
        <p:grpSpPr>
          <a:xfrm>
            <a:off x="685800" y="1523880"/>
            <a:ext cx="6754680" cy="482760"/>
            <a:chOff x="685800" y="1523880"/>
            <a:chExt cx="6754680" cy="482760"/>
          </a:xfrm>
        </p:grpSpPr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685800" y="1523880"/>
                  <a:ext cx="144612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: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7010280" y="1523880"/>
                  <a:ext cx="430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03" name=""/>
          <p:cNvGraphicFramePr/>
          <p:nvPr/>
        </p:nvGraphicFramePr>
        <p:xfrm>
          <a:off x="4267080" y="3962520"/>
          <a:ext cx="4267440" cy="18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962520"/>
                    <a:ext cx="426744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C954D-DFEF-446B-BF4F-548D81AE09E1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2120" y="685800"/>
            <a:ext cx="7315200" cy="389664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. péld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llenőrző kártya többrétegű ingadozás eseté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Gyógyszergyári ellenőrző laboratóriumban az eljárás stabilitását (időbeli állandóságát) úgy ellenőrzik, hogy egy ismert összetételű minta (ún. ellenőrző minta) hatóanyag-tartalmát havonta mérik, alkalmanként 3 ismétléss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2F2F5-57D8-49CB-8B08-4CEE2162B7F8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162920" cy="5790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AEEBF-9883-4C33-86D2-EB00C5E05266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7:27:07Z</dcterms:created>
  <dc:creator>Kemeny S.</dc:creator>
  <dc:description/>
  <dc:language>en-US</dc:language>
  <cp:lastModifiedBy>Sandor Kemeny</cp:lastModifiedBy>
  <cp:lastPrinted>2004-03-28T17:40:53Z</cp:lastPrinted>
  <dcterms:modified xsi:type="dcterms:W3CDTF">2008-04-14T15:40:21Z</dcterms:modified>
  <cp:revision>228</cp:revision>
  <dc:subject/>
  <dc:title>Folyamatkepessegi elemzes</dc:title>
</cp:coreProperties>
</file>