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014120" y="723600"/>
            <a:ext cx="4830840" cy="36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EDF8-7B29-45AD-9545-0CD2AECEB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54FF-0D0A-49DD-8547-55C46D515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22400" y="73008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2960" y="4587840"/>
            <a:ext cx="503064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76282-8683-495A-8519-01F9C76F1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B2DA1-1D60-48F7-8EEA-E43979267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4B45-F949-4A4F-A6B6-B8F9B1EA8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8304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0412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160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8304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0412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69F2D-6829-476C-8619-D699BA6C43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07419-7C3F-41D5-87A7-9D6185B1F1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E67D3-55DC-4140-8985-C3A50821C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664F1-86D9-4BC5-ADD9-3C9389FC2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0C1F7-4BF2-47B7-BD11-FC7BE28C3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9600" y="151920"/>
            <a:ext cx="590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D42DC-1CD9-42A2-8B78-9B5A6E4C8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ACA22-E7FC-48E3-9C54-0CE8DE6F2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2BEF3-CD71-4A62-84F7-146B65C07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1EFE7-8A24-48AA-B71D-0AF4A5D2B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43240" y="6400800"/>
            <a:ext cx="267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30960" y="6400800"/>
            <a:ext cx="175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93B9-4AE9-43E9-8BCC-DA473776C95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AD235928-5FD5-4E89-B273-85C925F4EAAB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90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gy faktor szerinti ANOV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7400" y="2315160"/>
            <a:ext cx="53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öbb független mintánk van, elemszám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33720" y="3200400"/>
                <a:ext cx="3579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133720" y="4419720"/>
                <a:ext cx="3171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324480" y="2286000"/>
                <a:ext cx="1752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70FE7-3917-4208-ACDD-285EA8C5950A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676520"/>
          <a:ext cx="8534160" cy="35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53416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6996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egyensúlyozott terv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: p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...=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B4A12-F2B5-4D4A-8292-46B6C62EA6FC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3124080"/>
          <a:ext cx="5410440" cy="19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5410440" cy="19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715000" y="2438280"/>
                <a:ext cx="267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22" name=""/>
          <p:cNvGraphicFramePr/>
          <p:nvPr/>
        </p:nvGraphicFramePr>
        <p:xfrm>
          <a:off x="380880" y="533520"/>
          <a:ext cx="4191120" cy="18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33520"/>
                    <a:ext cx="41911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7544160" y="44956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76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248520" y="1295280"/>
                <a:ext cx="20523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sub>
                    </m:sSub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 flipH="1">
            <a:off x="4572000" y="1600200"/>
            <a:ext cx="1371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791320" y="4724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523880" y="5105160"/>
            <a:ext cx="213372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748480" y="5181480"/>
                <a:ext cx="22381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593040" y="3124080"/>
                <a:ext cx="25509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448200" y="-1080"/>
            <a:ext cx="53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mary fülön: Descriptive cell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9160" y="2513520"/>
            <a:ext cx="40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mary fülön: Test al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0D9AC-30D6-4EB8-A678-874B803E8035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09600" y="463680"/>
            <a:ext cx="59086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eltételezések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280" y="1736640"/>
            <a:ext cx="32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1736640"/>
            <a:ext cx="4632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„hibák” várható értéke zéru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6280" y="2575080"/>
            <a:ext cx="32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280" y="3336840"/>
            <a:ext cx="32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280" y="4479840"/>
            <a:ext cx="32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75480" y="2575080"/>
            <a:ext cx="177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rianciáj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971800" y="2590920"/>
                <a:ext cx="358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3412080" y="2575080"/>
            <a:ext cx="140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konst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3352680"/>
            <a:ext cx="718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„hibák” csoportokon belül és csoportok közö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0760" y="3886200"/>
            <a:ext cx="3315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 függetlenek egymástó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08880" y="4479840"/>
            <a:ext cx="702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„hibák” normális eloszlásúak (nem 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datok!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705720" y="685800"/>
                <a:ext cx="14713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2C86D-CFB3-4380-BBDB-9E812DAAA31B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768240"/>
            <a:ext cx="12956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14600" y="3200400"/>
                <a:ext cx="34290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418280" y="4418280"/>
            <a:ext cx="178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gazi ért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árható ért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5440" y="4418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ért ért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905120" y="3809880"/>
            <a:ext cx="53316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8960" y="455760"/>
            <a:ext cx="523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aktor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dik szintj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di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dié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csoporton belüli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ismét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580920" y="373356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876920" y="3809880"/>
            <a:ext cx="759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54040" y="175140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ísérleti (nemcsak mérési) h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22860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40A2D-0534-4419-96D0-71E6AD364D42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838080" y="45720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886200" y="457200"/>
                <a:ext cx="3700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914400" y="2057400"/>
                <a:ext cx="15685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914400" y="4495680"/>
                <a:ext cx="19558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6779160" y="129420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tlag-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1730160"/>
            <a:ext cx="482148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faktor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szintjének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diéta) ha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zös érték;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+1 param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038480" y="4495680"/>
                <a:ext cx="26877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008480" y="533304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s-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304704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343400" y="3200400"/>
                <a:ext cx="14479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58389-B866-4104-8867-40EDC2E23671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886200" y="304920"/>
                <a:ext cx="1352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 </m:t>
                    </m:r>
                    <m:r>
                      <m:t xml:space="preserve">+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sSub>
                      <m:e>
                        <m:r>
                          <m:t xml:space="preserve">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85800" y="3038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cslé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62120" y="1295280"/>
                <a:ext cx="36018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838080" y="3048120"/>
                <a:ext cx="160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38080" y="3657600"/>
                <a:ext cx="1490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019560" y="16754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őát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0720" y="297072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a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ügget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5240" y="365652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csoport átl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4495680"/>
          <a:ext cx="571500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95680"/>
                    <a:ext cx="571500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24C81-982C-4CE6-BD3E-9F8AD9091563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809880" y="3048120"/>
          <a:ext cx="487692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048120"/>
                    <a:ext cx="487692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838080" y="762120"/>
          <a:ext cx="5715000" cy="18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762120"/>
                    <a:ext cx="57150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010280" y="990720"/>
                <a:ext cx="14479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876920" y="5715000"/>
                <a:ext cx="86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6915240" y="1949760"/>
            <a:ext cx="21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igma-restri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5880" y="56376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et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295280" y="3048120"/>
          <a:ext cx="1828800" cy="29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048120"/>
                    <a:ext cx="1828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04920" y="52578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6560" y="151200"/>
            <a:ext cx="37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mary fülön: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60B07-351B-4903-B5FD-10CDF97CCEF1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nfidencia-intervallum az egyes csoportok várható értéké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24280" y="1812960"/>
            <a:ext cx="18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ont-becslé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20680" y="2727360"/>
            <a:ext cx="275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ntervallum-becslé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105520" y="2514600"/>
                <a:ext cx="13888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124080" y="3352680"/>
                <a:ext cx="10605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933800" y="3565440"/>
            <a:ext cx="221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ab. fokszá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543800" y="3505320"/>
                <a:ext cx="11523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807840" y="4403880"/>
            <a:ext cx="781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csoport várható értékének konfidencia-intervallu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981080" y="5257800"/>
                <a:ext cx="48452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rad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rad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800600" y="1752480"/>
                <a:ext cx="1490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E77D2-06B6-4135-A4B8-54DA7B035509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914400" y="762120"/>
                <a:ext cx="26877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4570560" y="76212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utasít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73800" y="187020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ndegyik különböző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14400" y="3200400"/>
                <a:ext cx="895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200400" y="3200400"/>
                <a:ext cx="9320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486400" y="2971800"/>
                <a:ext cx="21574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893160" y="4765680"/>
            <a:ext cx="48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Összehasonlítások: tervezett, post h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DFFD9-FD4C-4003-9760-9AB3D4B331AE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838080" y="762120"/>
                <a:ext cx="14385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267080" y="609480"/>
                <a:ext cx="15717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⋅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85800" y="1752480"/>
                <a:ext cx="35766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715000" y="1752480"/>
                <a:ext cx="26431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457200" y="3174120"/>
            <a:ext cx="8458200" cy="510120"/>
            <a:chOff x="457200" y="3174120"/>
            <a:chExt cx="8458200" cy="510120"/>
          </a:xfrm>
        </p:grpSpPr>
        <p:sp>
          <p:nvSpPr>
            <p:cNvPr id="211" name=""/>
            <p:cNvSpPr/>
            <p:nvPr/>
          </p:nvSpPr>
          <p:spPr>
            <a:xfrm>
              <a:off x="1600200" y="3174120"/>
              <a:ext cx="7315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egyesítésével a szabadsági fok 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u-H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u-HU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-2=6+6-2=10 lenn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457200" y="3200400"/>
                  <a:ext cx="32220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1295280" y="3200400"/>
                  <a:ext cx="32256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214" name=""/>
            <p:cNvSpPr/>
            <p:nvPr/>
          </p:nvSpPr>
          <p:spPr>
            <a:xfrm>
              <a:off x="839520" y="31993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é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3520" y="3961080"/>
            <a:ext cx="5732280" cy="682200"/>
            <a:chOff x="533520" y="3961080"/>
            <a:chExt cx="5732280" cy="68220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533520" y="3962520"/>
                  <a:ext cx="347400" cy="45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3505320" y="3962520"/>
                  <a:ext cx="276048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−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>
              <a:off x="1142280" y="3961080"/>
              <a:ext cx="212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szabadsági fo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828800" y="4648320"/>
                <a:ext cx="21556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5252760" y="4722840"/>
            <a:ext cx="384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SD-pró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Least Significant Differ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F5EAF-419B-4CC1-AE38-EA0342961C57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90720" y="1752480"/>
          <a:ext cx="70009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0009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" name=""/>
          <p:cNvGrpSpPr/>
          <p:nvPr/>
        </p:nvGrpSpPr>
        <p:grpSpPr>
          <a:xfrm>
            <a:off x="5105520" y="2727360"/>
            <a:ext cx="1269360" cy="396720"/>
            <a:chOff x="5105520" y="2727360"/>
            <a:chExt cx="1269360" cy="396720"/>
          </a:xfrm>
        </p:grpSpPr>
        <p:sp>
          <p:nvSpPr>
            <p:cNvPr id="55" name=""/>
            <p:cNvSpPr/>
            <p:nvPr/>
          </p:nvSpPr>
          <p:spPr>
            <a:xfrm>
              <a:off x="5105520" y="2895480"/>
              <a:ext cx="152280" cy="2286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05520" y="2895480"/>
              <a:ext cx="3045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257440" y="2895480"/>
              <a:ext cx="152280" cy="2286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52000" y="2727360"/>
              <a:ext cx="722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333333"/>
                  </a:solidFill>
                  <a:latin typeface="H-Times New Roman"/>
                </a:rPr>
                <a:t>át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762120" y="533520"/>
            <a:ext cx="792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átlagok akkor is különböznek, ha a csoportok között nincs a valóságban különb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440" y="3199680"/>
            <a:ext cx="85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33"/>
                </a:solidFill>
                <a:latin typeface="Times New Roman"/>
              </a:rPr>
              <a:t>cso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6976F-4070-4088-970E-7F4D182D78AF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4120" y="912960"/>
            <a:ext cx="28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ltalánosít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adik nullhipotéz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924360" y="838080"/>
                <a:ext cx="20257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00200" y="2133720"/>
                <a:ext cx="1225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664440" y="2107440"/>
            <a:ext cx="318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kontraszt-együttható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3200400"/>
                <a:ext cx="1682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3733560" y="3199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ontras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914400" y="4408560"/>
                <a:ext cx="14382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975120" y="4406760"/>
                <a:ext cx="15825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3159360" y="5079240"/>
            <a:ext cx="328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0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-1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162920" y="228600"/>
                <a:ext cx="1431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75520" y="838080"/>
                <a:ext cx="1863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779BD-06AA-4531-8F4D-F5DA4F38F75E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66680" y="914400"/>
                <a:ext cx="2065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572000" y="609480"/>
                <a:ext cx="24321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04880" y="2133720"/>
                <a:ext cx="305280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447920" y="3124080"/>
                <a:ext cx="2266920" cy="14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793440" y="5180040"/>
            <a:ext cx="58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rtogonálisak a kontrasztok, ha minden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kkor függetlenek az összehasonlítás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934320" y="5181480"/>
                <a:ext cx="1481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1E251-FA06-4955-B208-3CAC0A8792A1}" type="slidenum">
              <a:t>21</a:t>
            </a:fld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604800" y="3052800"/>
          <a:ext cx="7101000" cy="324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3052800"/>
                    <a:ext cx="71010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85800" y="609480"/>
                <a:ext cx="18702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11360" y="1371600"/>
                <a:ext cx="1846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85800" y="2133720"/>
                <a:ext cx="29494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019920" y="838080"/>
                <a:ext cx="1481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7697520" y="837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013440" y="2133720"/>
                <a:ext cx="20890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029200" y="2362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C8681-741E-45C0-B739-5854F5AF89E3}" type="slidenum">
              <a:t>22</a:t>
            </a:fld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57200" y="304920"/>
                <a:ext cx="992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749240" y="457200"/>
            <a:ext cx="67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összehasonlítás (1-2, 1-3, 1-4, 2-3, 2-4, 3-4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 h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1295280"/>
            <a:ext cx="7261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összehasonlításra az elsőfajú hiba valószínűsége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l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5)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dividual error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gy nem követünk el elsőfajú hibát: 1-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gy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üggetlen összehasonlítás egyikéné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em követünk el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őfajú hibá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gy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üggetlen összehasonlítás valamelyikénél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követünk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őfajú hibá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810560" y="3784680"/>
                <a:ext cx="10159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327800" y="4927680"/>
                <a:ext cx="1879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1977120" y="5638680"/>
            <a:ext cx="23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amily error r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943600" y="5638680"/>
                <a:ext cx="2486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801680" y="56386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AD1F4-5299-480F-A9C5-DB8E1ECCCCA6}" type="slidenum">
              <a:t>23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64920" y="60840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em független összehasonlítások eseté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914400" y="2057400"/>
                <a:ext cx="1041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kα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181680" y="205632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onferroni-egyenlőtlen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943600" y="3200400"/>
                <a:ext cx="1574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832680" y="3123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. 6 nem független összehasonlítás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29500-3E2A-4118-9B0E-32F9908501C9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380880" y="914400"/>
          <a:ext cx="4419720" cy="16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44197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657600" y="1676520"/>
          <a:ext cx="548640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76520"/>
                    <a:ext cx="548640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504040" y="685800"/>
                <a:ext cx="13190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5" name=""/>
          <p:cNvGraphicFramePr/>
          <p:nvPr/>
        </p:nvGraphicFramePr>
        <p:xfrm>
          <a:off x="380880" y="3352680"/>
          <a:ext cx="4800600" cy="179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352680"/>
                    <a:ext cx="480060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657600" y="4419720"/>
          <a:ext cx="5181480" cy="128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4419720"/>
                    <a:ext cx="51814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729400" y="3276720"/>
                <a:ext cx="13618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52520" y="303840"/>
            <a:ext cx="86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ervezett összehasonlításo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anned comps fülön: Specify contr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A8468-E773-4FD0-9557-BC972CAC8988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867280" y="228600"/>
                <a:ext cx="2148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72" name=""/>
          <p:cNvGraphicFramePr/>
          <p:nvPr/>
        </p:nvGraphicFramePr>
        <p:xfrm>
          <a:off x="0" y="228600"/>
          <a:ext cx="4724280" cy="17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472428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3124080" y="1219320"/>
          <a:ext cx="6019920" cy="14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219320"/>
                    <a:ext cx="601992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063F7-9889-462D-8768-193568F1D297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920" y="1676520"/>
          <a:ext cx="5943600" cy="44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59436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429240" y="3733920"/>
                <a:ext cx="2714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MSSE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223200" y="1522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kkora különbséget tudnánk kimutatn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3920" y="913320"/>
            <a:ext cx="75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Power Analysis&gt;Several Means, ANOVA 1-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E8FEE-5BFB-47A9-8D7E-D3F0F3A42F63}" type="slidenum">
              <a:t>27</a:t>
            </a:fld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838080" y="2514600"/>
          <a:ext cx="47246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47246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606960" y="22860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moszkedasztici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76720" y="4343400"/>
          <a:ext cx="5181480" cy="14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343400"/>
                    <a:ext cx="518148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6324480" y="25146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rzékeny a normális eloszlás feltételezésé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29200" y="304920"/>
                <a:ext cx="14176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988560" y="167544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artlett-pró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5920" y="4343400"/>
            <a:ext cx="187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evene-pró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30480" y="303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2400" y="913320"/>
            <a:ext cx="78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re results&gt;Assumptions fülön: Homogeneity of varianc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2819520"/>
            <a:ext cx="2971800" cy="1143000"/>
          </a:xfrm>
          <a:prstGeom prst="ellipse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0D914-0E9D-44FB-9369-E45462360AF6}" type="slidenum">
              <a:t>28</a:t>
            </a:fld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1400" y="228600"/>
            <a:ext cx="73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feltételezések ellenőrzése a reziduumok vizsgálatá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57200" y="3657600"/>
          <a:ext cx="36576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657600"/>
                    <a:ext cx="36576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029200" y="762120"/>
          <a:ext cx="3581280" cy="26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762120"/>
                    <a:ext cx="35812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800600" y="3733920"/>
          <a:ext cx="3581280" cy="268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733920"/>
                    <a:ext cx="35812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441000" y="103176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siduals 1 fülö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69440" y="194616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orm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9880" y="22096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7520" y="266688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re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 resid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icted resu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hist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1600" y="3124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3429000"/>
            <a:ext cx="3812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5A701-0DE3-41B2-9FE4-E402E8C27A92}" type="slidenum">
              <a:t>29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2209680"/>
          <a:ext cx="71308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71308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870360" y="2514600"/>
            <a:ext cx="22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33"/>
                </a:solidFill>
                <a:latin typeface="H-Times New Roman"/>
              </a:rPr>
              <a:t>át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2666880"/>
            <a:ext cx="152280" cy="228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2666880"/>
            <a:ext cx="3045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7240" y="2666880"/>
            <a:ext cx="152280" cy="228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6720" y="3504600"/>
            <a:ext cx="85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33"/>
                </a:solidFill>
                <a:latin typeface="Times New Roman"/>
              </a:rPr>
              <a:t>cso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0120" y="456120"/>
            <a:ext cx="76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tt az átlagok jobban különböznek. Szignifikáns a különbsé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124080" y="1143000"/>
                <a:ext cx="3171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8126A-CC2E-45F5-8360-C6CB93185AA7}" type="slidenum">
              <a:t>3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685800" y="2209680"/>
          <a:ext cx="39625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39625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671040" y="727200"/>
            <a:ext cx="32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iduals 2 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lö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X: Orde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Y: Res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339B3-D5DB-425A-93EC-B8D6CAFCB507}" type="slidenum">
              <a:t>30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45440"/>
            <a:ext cx="7669080" cy="18489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9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Box-Hunter-Hunter: Statistics for Experimenters, J. Wiley, 1978, p. 165) Véralvadási idő (sec) négyféle diéta eseté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alv.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4495680" cy="351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168880" y="2666880"/>
                <a:ext cx="267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7C3D5-59FA-4032-B2B8-F4BAD7195EBB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55760" y="1260360"/>
            <a:ext cx="679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nincs különbség a csoportok között, csak a véletlen ingadozás miatt térnek el egymástól az átlag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523880" y="2819520"/>
                <a:ext cx="406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2570760" y="2801880"/>
            <a:ext cx="34711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tféleképpen adható me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ek közötti elté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tlagok közötti elté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676520" y="4875840"/>
            <a:ext cx="5685840" cy="515160"/>
            <a:chOff x="1676520" y="4875840"/>
            <a:chExt cx="5685840" cy="515160"/>
          </a:xfrm>
        </p:grpSpPr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676520" y="4876920"/>
                  <a:ext cx="3553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124080" y="4876920"/>
                  <a:ext cx="3556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2363760" y="4875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é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5000" y="487584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4572000" y="4876920"/>
                  <a:ext cx="41112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82" name=""/>
            <p:cNvSpPr/>
            <p:nvPr/>
          </p:nvSpPr>
          <p:spPr>
            <a:xfrm>
              <a:off x="5256720" y="4875840"/>
              <a:ext cx="21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körül ingadozi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7244D-5ED2-4FCC-AA45-C2D3D2699EEA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28840" y="50184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csoporton belüli ingadoz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rianciá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791320" y="0"/>
                <a:ext cx="232092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48120" y="4191120"/>
                <a:ext cx="524664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/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600120" y="3275640"/>
            <a:ext cx="77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egyesített csoportokon belüli szórásnégyzet (ha konsta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477120" y="1523880"/>
                <a:ext cx="142560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830880" y="1904040"/>
            <a:ext cx="42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a csoport-átlagtól való eltérés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ED83F-77C4-4497-A486-883044CD958D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05520" y="1295280"/>
                <a:ext cx="16444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289440" y="273240"/>
            <a:ext cx="885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csoport átlagának varianciája, ha a valóságban nincs különbsé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ak véletlen ingadoz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943600" y="2362320"/>
                <a:ext cx="28987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528840" y="2885040"/>
            <a:ext cx="4668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átlagokból becsülv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on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37440" y="167544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6781320" y="159984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33520" y="4572000"/>
                <a:ext cx="39052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p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95880" y="4648320"/>
                <a:ext cx="25513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747680" y="4113720"/>
            <a:ext cx="32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ltalánosa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B8AFA-EB8A-47E2-B179-5103674511B1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447920" y="1295280"/>
                <a:ext cx="1098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752480" y="4724280"/>
                <a:ext cx="1573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&gt;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952880" y="2286000"/>
                <a:ext cx="267840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/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52880" y="228600"/>
                <a:ext cx="27054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7978680" y="297072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with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42160" y="8370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etw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895480" y="990720"/>
            <a:ext cx="19051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743200" y="2057400"/>
            <a:ext cx="22096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6800" y="3859920"/>
            <a:ext cx="464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a valóságban van különbsé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410080" y="3962520"/>
          <a:ext cx="312444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962520"/>
                    <a:ext cx="312444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65831-88F0-4335-BE5B-385CBBEDDA37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380880"/>
            <a:ext cx="3592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NOVA tábláz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1143000"/>
          <a:ext cx="8610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610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41360" y="5013360"/>
            <a:ext cx="8550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ún. teljes négyzetösszeg. Az A faktor hatása jelentős (elutasítj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3880" y="5394240"/>
            <a:ext cx="25124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hipotézist),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038480" y="5562720"/>
                <a:ext cx="1741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³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i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D0E65-2F10-44F6-8CAB-754A95B79498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7:27:07Z</dcterms:created>
  <dc:creator>Kemeny S.</dc:creator>
  <dc:description/>
  <dc:language>en-US</dc:language>
  <cp:lastModifiedBy>Sandor Kemeny</cp:lastModifiedBy>
  <cp:lastPrinted>2004-03-28T17:40:53Z</cp:lastPrinted>
  <dcterms:modified xsi:type="dcterms:W3CDTF">2008-04-14T15:38:40Z</dcterms:modified>
  <cp:revision>230</cp:revision>
  <dc:subject/>
  <dc:title>Folyamatkepessegi elemzes</dc:title>
</cp:coreProperties>
</file>