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DA44-78ED-465F-9E2B-DED11EA71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B583-2BFB-4C31-9AAA-12A527DCD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05DE-33F9-47B6-8D64-E7329CC3A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4D5E-DCD2-42A1-A525-F215234FE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A7C5-7F45-4069-B6FF-68F64D35F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730C-7822-4719-AC9A-CC0982C81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DEF5-1E0B-426D-8AB9-D99A437CA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692B-860D-4476-A821-34F3161F6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F8BA-0AFC-41BA-BFB9-9295B2384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F10E-3AD1-4460-8CF8-C5604D5DF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6C90-78D8-4A6D-918A-0240320AE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0B76-9260-418B-B664-046C747E3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F93C-A329-4A63-BCC9-3F8D4A7F0B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2232795-0658-4C56-9741-AF46157502FA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4724280" cy="9144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faktor szerin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1964880"/>
            <a:ext cx="716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t kombináljuk 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vel, minden "cellában azonos számú ismétlés (kiegyensúlyozott terv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rv szerkezete miatt a faktorok hatását egymásétól függetlenül vizsgálhat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6EA0-AB68-426A-8741-2E8FC5917927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286000"/>
          <a:ext cx="533376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533376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06800" y="253080"/>
            <a:ext cx="370548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x-Cox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ranszform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29200" y="228600"/>
                <a:ext cx="103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76480" y="959040"/>
            <a:ext cx="87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Op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(Program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StatSoft&gt;Statistica7&gt;Examples&gt;Macr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nalysis Examples&gt;BoxC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238880" y="4572000"/>
                <a:ext cx="895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4512-776D-4304-A7B5-3AB7BBDD708C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12193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FB16-A3A3-4371-B364-F5FA179A1F15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66680" y="152388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9480" y="53352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0" y="533520"/>
                <a:ext cx="2149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252400" y="5335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est kell illesz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67480" y="2133720"/>
                <a:ext cx="7635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91520" y="3200400"/>
                <a:ext cx="10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1AF12-8FF8-4BBB-BB19-09C6EBCE93E7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68580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87560" y="457200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083120" y="3406680"/>
                <a:ext cx="1682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19520" y="533520"/>
                <a:ext cx="4114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26920" y="2057400"/>
                <a:ext cx="2030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074760" y="2056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03640" y="1828800"/>
                <a:ext cx="199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9742-7191-409C-B2A9-1929D92AC2EA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2448000"/>
          <a:ext cx="60516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48000"/>
                    <a:ext cx="6051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60948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H="1">
            <a:off x="6705720" y="3429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DE0A-C973-4274-BFBD-CD71ABE1AAE3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228600"/>
          <a:ext cx="435456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43545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95680" y="2666880"/>
          <a:ext cx="4648320" cy="347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66880"/>
                    <a:ext cx="46483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17760" y="533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yett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9A12-2C7D-4702-BDC7-9FD3A3104037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838080"/>
          <a:ext cx="655308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530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8E61-F514-40B2-88F4-4371F2B5B776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90720" y="1143000"/>
          <a:ext cx="601956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60195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93640" y="4861080"/>
            <a:ext cx="80168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tások még kifejezettebb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rtékei nagyobbak), a kölcsönhatáshoz tartozó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0.112 helyett 0.387 les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83D0-8B45-4C50-A53C-74FD017731A2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1143000"/>
          <a:ext cx="434340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4343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00600" y="3048120"/>
          <a:ext cx="4343400" cy="32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048120"/>
                    <a:ext cx="434340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09840" y="3049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33C0-60E3-4416-BF07-5258A30BC67E}" type="slidenum">
              <a:t>18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62320" y="1295280"/>
          <a:ext cx="5956200" cy="51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95280"/>
                    <a:ext cx="59562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09480" y="110880"/>
            <a:ext cx="8229600" cy="13003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oison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F341-1781-44D5-8C79-2CD4D462E4DF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85800"/>
          <a:ext cx="723888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388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6897-4A5F-40D9-B7FC-04A964F6C0B0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33720" y="1219320"/>
                <a:ext cx="177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4419720"/>
                <a:ext cx="3537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446480" y="266580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175212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428640" y="17521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9600" y="1904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343040" y="1676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760" y="456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920" y="537876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86000" y="495288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428640" y="495288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343400" y="4952880"/>
            <a:ext cx="2362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32280" y="30384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867280" y="1143000"/>
                <a:ext cx="275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q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D1D1-B30D-4CD9-A0B8-ADD172CAC5E9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14600" y="1446840"/>
            <a:ext cx="5517360" cy="459720"/>
            <a:chOff x="2514600" y="1446840"/>
            <a:chExt cx="5517360" cy="4597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514600" y="1447920"/>
                  <a:ext cx="287028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⋅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6095160" y="144684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d azono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95280" y="609480"/>
            <a:ext cx="5152680" cy="534960"/>
            <a:chOff x="1295280" y="609480"/>
            <a:chExt cx="5152680" cy="5349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295280" y="609480"/>
                  <a:ext cx="1773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21760" y="6847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átlag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95280" y="2437200"/>
            <a:ext cx="6634800" cy="483840"/>
            <a:chOff x="1295280" y="2437200"/>
            <a:chExt cx="6634800" cy="4838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295280" y="2438280"/>
                  <a:ext cx="35370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6170400" y="24372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hatás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819520" y="3352680"/>
                <a:ext cx="26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4267080"/>
                <a:ext cx="299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43200" y="5105520"/>
                <a:ext cx="44877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;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6661-DB7F-4364-8291-79050C7CB283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9960" y="27396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V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715000" y="457164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42360" y="5256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4-1)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838080"/>
          <a:ext cx="8534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534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3587-2C10-458C-8587-6172C0BAD085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962520"/>
          <a:ext cx="7086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7086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0"/>
          <a:ext cx="5334120" cy="35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412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334120" y="-324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ans fülön: Observed, unweighted,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0640" y="34279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fülön: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FC99-2744-487F-B16A-3CD2055539DD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85800" y="2514600"/>
          <a:ext cx="53341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53341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85800" y="4267080"/>
          <a:ext cx="586728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586728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3280" y="3808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19720" y="5335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086600" y="53244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440" y="133668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Assumptions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Homogeneity of var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CEBC-E18C-448D-A50A-B7EED0087DA7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58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90760" y="3798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760" y="9558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1 fülön: Pred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78AA-B8F3-4CCC-A249-8BE8B6CE939C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9:22Z</dcterms:modified>
  <cp:revision>227</cp:revision>
  <dc:subject/>
  <dc:title>Folyamatkepessegi elemzes</dc:title>
</cp:coreProperties>
</file>